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3BB8-9616-4CF7-85AF-1FD1D8D6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10DD-196D-43F7-BBE3-0F30A702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A5CF9-55DB-452C-B33F-34EA400F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26F86-CC22-447E-A2EE-3F2B5DC8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54974-7658-417D-96B7-86AD513F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BAD91-7DD7-4E33-9FE6-02F0CD1F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90FE8-43B8-49AC-9E45-642C0020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2C3F7-474F-4EE2-A75F-C7AF8640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FBD47-737E-4466-88D6-E6D31CF1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AC0DE-2DA2-488C-95B1-3930DD6C8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951F0-ACC3-4D64-AF78-F615674B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56402-7874-4D66-9B75-88D694ED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9C35-F9BF-43D9-8488-CB43E556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6C2F5-57FA-4E6F-865B-75D9AE68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58483-897F-4842-9152-62B3FC20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D37EC-54FD-4507-AF62-C6B90D3A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79753-FAA3-4225-B4A5-C9C23745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9D308-DFC9-4576-A255-A2D41EC5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A13C3-4564-4EC6-9D7D-A80F5121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1FB37-EA3A-499A-9B68-36816803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7DE1C-BE26-4A24-882C-EAA06E5E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D898A-CE78-42E7-9A7F-3E1C0C43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EBF36-F18D-462C-A7D2-806720DF1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2962-C913-4F80-81A7-EA79BAE8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6A6BE-7A92-4C08-BEFC-14A9C9F9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3BEE88-E085-4163-BA0A-6DD564C1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1F0B5-154C-4C31-9BE4-EC1FBE56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F231B-D8BC-4316-842E-A4535083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D87CC-D273-47D5-8E7F-E54CCADD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867B4-F8DB-47CE-B02C-61554D7F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A3D46-9BD8-4068-9B57-FD85ABF2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217AC-F653-4E4F-9E66-CBF013EC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76012-C505-4697-9F62-402E3441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8BCC4-CA72-4BF2-BB4C-AAA1ABF7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F9CC-DB2F-40D7-A3A3-B1D6B99C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E3CE2-C71B-4B7F-842B-13B50A7E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A91D0-ACF0-4B2C-9657-70C8F277F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05A12-D375-4F2C-8440-DE0B3CC2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9C85B-1B31-4513-9427-B2C6FD5B5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77B19-BE4E-4BE3-9F3A-6472CF01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0C36B-21CA-4944-8C0E-86250D7D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5AC58-D4A9-40D2-B897-28095970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EC04F-29BC-4FDF-96E6-EAC93E82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23119-C72B-457E-A986-72B32533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5685E-68B4-46EE-8389-2AF3D4D3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6A4B-0C59-4FCD-B973-DCF70179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13000-6D28-40F6-A5EE-28D1F770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32C89-D886-4676-A20B-74E95AAA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A3635-5010-45CB-B50B-DB1E6008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884B6-F15A-4C1E-A95B-CBBC73B83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A4AD2-9011-46FD-87F9-F5E2D1E31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FE05A4-D053-4FFB-B4C9-BFF190F8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CFD51B-E3C4-4585-ABE7-85BC0203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1F9228-CEAE-42E9-87E8-8DC5F60C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35E4DA-4862-49A7-B84F-80DD3308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37C0EE-9FB8-4ABC-85EA-F933F52C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0352-A716-4650-8275-9167E902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FB63E-618D-468E-822A-B0E2EEF2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A717E-804C-456D-906E-E5DF3A1C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7C0B3-E744-4D2A-9919-15E5221F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A93E51-314C-4984-A9CA-0746821D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80CD0-C945-40E9-8934-2CDC1AD9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283B8E-C4D7-4FED-BE8B-4EAADAEA1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CCD89-E7EF-4261-97D1-6E08A6A43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114199-743C-4EEA-9022-BBEF90AB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819E96-08A5-4F74-9EB1-A9B4F93D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BD96ED-9A93-480F-B579-A3EA59C7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2C70-829B-4533-9A55-444213F1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1CFF1C-F8AC-411C-83CE-65709E97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BDDCBC-DF26-45C2-B678-717FE31B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926BF5-2075-4CE1-B06D-AE991756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E49DD8-496F-4DA1-860C-1EFDA069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B6C988-0663-4202-905D-9C199D07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A5759E-2FEE-4727-8E3A-7120CB66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0BCE17-D2D4-4BE9-8235-41B71ED5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92D186-8C47-4D77-8F00-DE4C220A9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7BDB6D-0C77-44C2-B11A-6498009C0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FE6013-5F93-417D-A4FE-6471DF26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85DD-36F4-4782-AF74-17559FD7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8D054D-349C-4F80-83F9-8735161D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27D8C1-C045-4A7E-AF12-684D1C65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137641-1EBB-4582-A7A8-6F334E8E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9E39AA-80C1-46CF-921B-02F5B807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2B65C1-1CB9-4E5C-AA76-3FD1E300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AE629D-C592-4DC2-B14A-CA72955E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DE82D9-48F7-48F9-BB23-CFEF57D8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F54853-894D-45D7-A079-67B2B1D5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501E7A-320E-4EE2-8EF7-002BC66F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507B02-DAC1-45B1-9B04-1B9B76D4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4200-69A5-4767-B0BB-807B207F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ECFE1D-43FF-47CE-B143-4D228573E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612549-2BB4-461F-A90A-B9A7B9DC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9BDF0D-D83C-42A5-B6EA-B491B4F9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CB4578-9E82-4E53-B248-C10CAF16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43772A-D94E-4DB7-B81A-07D3738C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9793D8-DB59-40F7-9E7E-B39DA457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EFA417-CF02-4673-B8E6-F2535750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A3E415-78CE-4324-905F-5F4628DD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5F1F15-337A-4BD7-A775-3BAD4DE9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A51B66-96A0-4A4D-8277-BCB6C84E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53C9-4482-4438-8573-E67F43E3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39E184-6FAE-4DF0-81AE-1F688053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122158-7F42-4FCE-BD28-8BAC743C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3BA601-4CDD-45BE-BDA9-39D588DC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C8EF52-97CB-4AC3-B4C5-822349F4C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6B330E-C510-4330-BD25-B35DB18C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112D87-3121-44F1-A1B3-79A1CD57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BEAC90-0FFC-40BD-9EAB-A2FFF244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DF3B24-6171-4FCE-A029-F36320F9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BCF234-DD02-4582-8B35-C6B99D74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7E7AC0-1396-4F33-9CE8-E592A54E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C38E-3C66-429D-B062-E02BEF34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15D7-943A-4BD8-AC29-3EA55E9E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166C16-CBBC-4B7E-AD06-A7E79E13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D6CC24-055F-4467-8398-06C204B5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FEA2F7-BB74-4966-B566-4EE728E4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862CDB-11E3-4DC2-A40F-97D190C7E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54F6B0-872F-4FFF-805D-A53ADF50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96008A-97C4-4844-83F2-E0369FD6D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734B09-E7AA-4CBC-95C7-AD18BB08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455B45-DC54-46BD-98EB-A3914C6C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48C2A1-C3F6-4E4B-B6E6-89DD2401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333696-6E80-4E8F-8E7C-ADB04945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DCC2-4AB1-4CB8-B9B6-6B8DB41D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82EB31-743B-4E3F-B5DC-ECCD4800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F039B1-BC94-4642-86B3-E52131EF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E5EE1F-3617-4C2F-9439-A3DABA7D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1193AF-6BD9-4D67-8B5F-9CA0917E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3E1EF0-3BF7-4FF8-A247-039B0FA9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B73D5D-B11B-449E-AF95-3338A339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F53F0D-F7A3-4D1D-A406-05C06A27F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FFD29C-4881-4F07-A363-68EB0C36F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EA783A-A9B3-48BC-ADAE-0ADF41AA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84B1D2-9BAB-4EAE-8840-BBB38A9B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6F82-835E-4B77-8356-B685E25A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3B6D73-1E34-4B04-9457-A95F47CC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958F42-C99E-405F-AF85-8FF92CA5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10D924-BA2D-4DB4-95E6-5B879E13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EEFE92-D172-4292-90C5-546DBADB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C8F256-0806-4BA5-80D0-08391EAC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117DB5-3A71-4E22-948B-F122CCC7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83218F-C70C-4449-9CE8-DE97067D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58782B-CB10-4CE9-AC64-F991BD2B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A64C65-6DFA-46DD-95E3-F2DB02BC2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D124E7-3026-437F-9BCE-8A8A700D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36D1-2712-4BCB-A307-3E7FBF812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921CA3-6B2E-43EF-A8C7-A2C4B917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88B9A0-A337-435F-AE5B-152ED2DC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CFBEBA-25F7-4CFB-B60B-C2E03E9D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AA262F-85D0-4BDE-AA34-8F443C9B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FD4B5B-5FFF-4033-A0C0-63FAD008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FC43E3-399A-4534-A95A-BAC0E47F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F7E9E2-C75E-41FC-B950-7D73789A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E176E9-8B02-4A5B-9471-A05AB288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9111D8-072F-4E92-B4C9-67B255DB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A0981E-1BD5-425B-9F59-2C504B0E3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5E6E-0A43-4D45-9792-5296E01E2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9D1947-500F-4D16-BF12-FD1F6E7EA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089617-A4E2-4C3D-8F11-C0F69EBF6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B0D4C3-B053-4784-B37A-4FD716C1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FC84D6-D051-45B2-A5CA-4B317D7E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980AEA-1739-40CA-9904-23BC2BCC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552E6E-8BE8-4F91-B393-832D6A46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6746F1-50E6-4A22-B321-1B79EEF2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527110-1FB0-4960-9F07-3767B3BD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BD0C0A-5B54-4992-9F95-15831986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6723F1-24BF-4F45-AFCB-4B46EA3F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CC02E1-AC47-4C81-8B74-FF50C1C1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33DBEC-3F1B-4938-A4F3-107A255AA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065B0B-FFC8-41E4-BB77-4321C0E42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9F8F-AEBE-4942-9037-4A8DCFA4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24D18-0A25-46D4-8570-9ED4D258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8E2A4-E235-40BC-B114-D41AAD39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C39C9-6700-4EE3-9178-4369A3BA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5FAA-B2A2-41AE-A39D-2F7581BD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EBDE8-BFDC-4D3D-B5E1-657BD006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403DD-A187-4941-A46F-372D4C28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477BD-6923-40A1-A4D5-49BD0D99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FE233-AEBC-47CE-9F0D-90CD9E0A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DEDC7-7D02-4092-9C30-D5BDA23C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6F153-2338-402F-9AE8-C556F93A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045DB-173B-4181-9043-776E43D2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45B18-3E90-427B-BCD1-C081D9B58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18F9E-ACBF-4736-93B1-3F6E68666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C3D78-E5C2-4103-959A-533CBDCA2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7C23-F193-43A3-BD64-099B6208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27348-C652-486D-A177-EE7D96A5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8A23A-0E2C-4FB8-B643-38B0FD1B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7FED2-C13E-4075-9DF9-BBF41831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0C86A-DBA6-4731-844B-26979503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CAEF4-8689-4017-957C-5F796A04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CF722-0E27-437A-A40F-0E497DFD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D6F1C-F9B4-411B-BF71-1BB52E2A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73291-4531-436F-A8DA-DFA17A3A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3B864-0D7E-4F68-BE42-98B180AF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75F17-2C6F-49FB-9F64-37F66AB1D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5C1C-3069-4FD5-8CCC-B06C4F0E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F4328-D4B2-4222-BFD7-EF1B190F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53D3B-4A17-4093-8E12-79447C001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37E56-CAA9-46AC-BD63-10E3CEEB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0BE18-2708-423E-A814-D34BDC45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65A04-B3D7-45BC-B2CC-D1DE507E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F62CA-74E8-4064-8F62-8717CC4C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F94F3-C4C8-416E-B75F-5367C055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4D9F9-BC2C-425A-81BC-DF4A4B2C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EA284-8E91-4E3D-8DC5-63B36511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869C0-9C43-41E9-8258-70F062EA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7F78-AB5C-450A-8A7D-ED6F1BA0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1AB23-EFB1-4DD8-9F51-C006FDFC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9FB02-0F27-4147-9EA5-82F81A77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627D4-875F-4F6C-8E4F-3816D831B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2130E-59E6-4E60-A051-E4C22943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70A7C-4A0D-4BF5-B91D-8AE8C159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E8AA3-B43C-41A3-ACD0-5403048E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93352-AA8C-4B1C-9BFE-D9F20DFC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814A2-FB7A-481F-AEE4-6DB78A5F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1CC27-F015-492C-B2FB-89DC93D6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0774D-E426-4A2F-B34D-63B0FBB1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6932-7C98-4A32-9FEF-C0CEC0E6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9FF57-A5AD-4281-9C0D-057EBC28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ACD39-A812-4165-ACA1-B6B4DEB0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70DB7-593F-4E39-A9D0-09950C61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E44C9-52BA-47DF-8740-4AD6BB3B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EEA90-71EC-456E-841C-D84C315E3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DC9D3-3CF6-47C4-9990-A46BE54F3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DFFA9-404E-4196-B236-11556228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66FFB-0E9B-498E-B996-E1BF2320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82CC7-C037-49D7-BB77-3FF1D66D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5FD1A-4191-4909-8833-FDA5C81B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69B9-B430-47B6-B321-F36BB8C1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E09C0-7929-420F-B2FC-93F00714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181C8-1676-4351-9063-FE522E4B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F1341-417B-4666-825F-4B501997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1EF3A-04CC-4E31-9336-E0C9F5BA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9D1DB-3242-47BC-98A7-F5CF54FF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EEE6B-F444-4F0A-944A-7A420EF5C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73C89-DC04-418A-A67B-7D96FE5E7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1ED8F-A20F-4F4A-AB83-0BD329EB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D7F27-2E38-4E26-A2E1-46ECFFB6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5E969-7158-4F06-B500-F6A8FA78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DEBE-744E-4CC5-BC56-35085EDC1D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6DE7-B641-41E0-B9AB-EB3A9491CE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C95D-A3E1-4410-A95D-3A3141E483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F416-142E-4825-AA09-2BE1DCE3C1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7DDA-73C2-410B-AFFC-0E8340566E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B7CE-E413-433F-88C4-2844D33585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DA58-00DB-4976-950F-5D151D4DA6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369C-7ECB-4EBF-8F5D-50977F7242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DC83-D528-445C-9F4A-693733756C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6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07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09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1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2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5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1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07E5-CF2A-4F55-B86F-AC01223D37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DA26-846A-4A94-AD5D-8AB23BE079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67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68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4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C305-F2F1-46AC-930F-523DD14CB3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9D6B-9D01-4F1F-87A3-B0130660CB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6E69-1074-4FBF-964E-5B92781E76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E588-AE0C-44D8-8F69-B8B14890CE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5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6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2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FD6E-42D2-4862-A235-739362E894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88BF-4145-4A99-9954-E59EA9A024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2EA7-1BBD-4177-B37B-C42778BE38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5CFB-A8E0-4F1B-B2EA-A508F85E7C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3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4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68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314B-0219-44AE-BA44-33383D2D06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4120-A7D4-40A1-957C-FC51A837A0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256A-419A-4722-8F2B-F3C2355591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4B37-EB66-4D4D-9862-00573B83DD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768A-9495-4061-BD68-1BBE4240CA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8892-218D-4DAC-BDAA-5B74A75617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59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0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1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2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4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5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7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68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69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5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C6D6-9228-4540-ACDA-759C1351CF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530B-0B37-4F32-B985-137713779A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078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6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28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4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B2C3-6AA3-439D-AE4B-9E311A2618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5A2D-991F-4258-BC5D-7A5C9403C8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1F63-3617-4B87-98AA-EB1E04E75E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1AB5-4552-4EB5-A995-2473AB995C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3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4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5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1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B572-288A-49CF-9641-CFF202048E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A39D-3612-4F70-A08F-9565A184A6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6A5D-DBDD-479E-A93A-6C2B53055C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B69D-0BC1-43F3-AF0F-561D86C8E9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9C74-865C-49A4-AA15-81B75DB645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AD79-9615-43AA-9447-2A1EBCE7B6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5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67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1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7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8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89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0E37-4CB0-42F2-A347-6F787D2A92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A886-614A-4504-A84A-B5A717E648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1" name="图片 2051" descr=""/>
          <p:cNvPicPr/>
          <p:nvPr/>
        </p:nvPicPr>
        <p:blipFill>
          <a:blip r:embed="rId1"/>
          <a:stretch/>
        </p:blipFill>
        <p:spPr>
          <a:xfrm>
            <a:off x="1376280" y="2928960"/>
            <a:ext cx="63914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24" name="组合 22531"/>
          <p:cNvGrpSpPr/>
          <p:nvPr/>
        </p:nvGrpSpPr>
        <p:grpSpPr>
          <a:xfrm>
            <a:off x="250920" y="189000"/>
            <a:ext cx="7846920" cy="6480000"/>
            <a:chOff x="250920" y="189000"/>
            <a:chExt cx="7846920" cy="6480000"/>
          </a:xfrm>
        </p:grpSpPr>
        <p:pic>
          <p:nvPicPr>
            <p:cNvPr id="1025" name="图片 22529" descr=""/>
            <p:cNvPicPr/>
            <p:nvPr/>
          </p:nvPicPr>
          <p:blipFill>
            <a:blip r:embed="rId1"/>
            <a:stretch/>
          </p:blipFill>
          <p:spPr>
            <a:xfrm>
              <a:off x="611280" y="1030320"/>
              <a:ext cx="7486560" cy="563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图片 22530" descr=""/>
            <p:cNvPicPr/>
            <p:nvPr/>
          </p:nvPicPr>
          <p:blipFill>
            <a:blip r:embed="rId2"/>
            <a:stretch/>
          </p:blipFill>
          <p:spPr>
            <a:xfrm>
              <a:off x="250920" y="189000"/>
              <a:ext cx="4971960" cy="64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6659640" y="30830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6659640" y="61945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4140360" y="314172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6"/>
          <a:stretch/>
        </p:blipFill>
        <p:spPr>
          <a:xfrm>
            <a:off x="4067280" y="620856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7"/>
          <a:stretch/>
        </p:blipFill>
        <p:spPr>
          <a:xfrm>
            <a:off x="1547640" y="61945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8"/>
          <a:stretch/>
        </p:blipFill>
        <p:spPr>
          <a:xfrm>
            <a:off x="1547640" y="314172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5" name="图片 21505" descr=""/>
          <p:cNvPicPr/>
          <p:nvPr/>
        </p:nvPicPr>
        <p:blipFill>
          <a:blip r:embed="rId1"/>
          <a:stretch/>
        </p:blipFill>
        <p:spPr>
          <a:xfrm>
            <a:off x="409680" y="1004760"/>
            <a:ext cx="8324640" cy="48484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1476360" y="2205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1476360" y="4221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0" name="图片 20481" descr=""/>
          <p:cNvPicPr/>
          <p:nvPr/>
        </p:nvPicPr>
        <p:blipFill>
          <a:blip r:embed="rId1"/>
          <a:stretch/>
        </p:blipFill>
        <p:spPr>
          <a:xfrm>
            <a:off x="1033560" y="1604880"/>
            <a:ext cx="7076880" cy="36482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1403280" y="17002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1332000" y="3716280"/>
            <a:ext cx="576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图片 8193" descr=""/>
          <p:cNvPicPr/>
          <p:nvPr/>
        </p:nvPicPr>
        <p:blipFill>
          <a:blip r:embed="rId1"/>
          <a:stretch/>
        </p:blipFill>
        <p:spPr>
          <a:xfrm>
            <a:off x="525600" y="115920"/>
            <a:ext cx="8439120" cy="63342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1547640" y="1197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1619280" y="31417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1547640" y="4076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5"/>
          <a:stretch/>
        </p:blipFill>
        <p:spPr>
          <a:xfrm>
            <a:off x="1547640" y="501336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2" name="图片 9217" descr=""/>
          <p:cNvPicPr/>
          <p:nvPr/>
        </p:nvPicPr>
        <p:blipFill>
          <a:blip r:embed="rId1"/>
          <a:stretch/>
        </p:blipFill>
        <p:spPr>
          <a:xfrm>
            <a:off x="171360" y="839880"/>
            <a:ext cx="8801280" cy="58291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2"/>
          <a:stretch/>
        </p:blipFill>
        <p:spPr>
          <a:xfrm>
            <a:off x="6084720" y="36590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3"/>
          <a:stretch/>
        </p:blipFill>
        <p:spPr>
          <a:xfrm>
            <a:off x="4284720" y="44798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4"/>
          <a:stretch/>
        </p:blipFill>
        <p:spPr>
          <a:xfrm>
            <a:off x="2700360" y="52434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5"/>
          <a:stretch/>
        </p:blipFill>
        <p:spPr>
          <a:xfrm>
            <a:off x="7812000" y="602136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1:21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